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DFCC1-7397-491A-A1F4-9BA9BD222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46BC7-9034-4D02-89FC-4D40A4FC3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42C2-1BAE-406F-A955-B7C4CCDC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0FF37-4127-458E-861D-F01BABE5A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C9837-D582-4A7C-9701-8EF4F7AA3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F9244-F305-4D44-835D-9958E4F3A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5F549-F72B-42FF-B91B-B3BEE3A74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F7834-D322-472D-9A16-8B62FBF2D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AD2BB-6CB2-4C05-A2A0-FBD8EF47C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CC848-1499-485B-A23E-FA7963979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E965-AEE6-40D2-84E2-42F7DAE8F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0ADE-B719-4B47-B1FA-5D1E1A56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5F5D4-3760-456B-8B4B-5D2DE96A3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8D49F-22B3-4774-8A77-2B3686B2E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1FF86-24A3-4988-9005-C5607DDD4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DDDB7-C482-429E-8BC4-6C2E2207F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B93A3-C497-4CBE-A448-757036B4B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4E4F-9A93-4178-8D13-E6785AFDA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2915-0747-410D-9F34-923D0C08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CB0E-D6ED-41AB-B5CC-E3279C5D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BCB78-609D-441A-9084-2F9904998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EF61-E6CF-4E67-AA73-0D31CB1F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B1E5-466A-4853-AA68-2E3DEF42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620E-6BBE-4340-8F86-035396356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058B-1C6D-4CB9-BB75-5CF5CBDAC060}"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C911-6025-4612-B065-6CEC97E21BC3}"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ACCESSIBILITÀ</a:t>
            </a:r>
            <a:endParaRPr b="0" lang="en-US" sz="3400" spc="-1" strike="noStrike">
              <a:solidFill>
                <a:srgbClr val="006633"/>
              </a:solidFill>
              <a:latin typeface="Garamond"/>
            </a:endParaRPr>
          </a:p>
        </p:txBody>
      </p:sp>
      <p:sp>
        <p:nvSpPr>
          <p:cNvPr id="86" name="PlaceHolder 2"/>
          <p:cNvSpPr>
            <a:spLocks noGrp="1"/>
          </p:cNvSpPr>
          <p:nvPr>
            <p:ph/>
          </p:nvPr>
        </p:nvSpPr>
        <p:spPr>
          <a:xfrm>
            <a:off x="456840" y="1752120"/>
            <a:ext cx="8458200" cy="417204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 siti Web devono devono essere progettati in modo da garantire la consultazione anche da individui affetti da disabilità motorie (controllo arti) o sensoriali (vista e udito), o cognitive, o condizionati dall’uso di strumenti con prestazioni limitate o da condizioni ambientali sfavorevoli</a:t>
            </a:r>
            <a:endParaRPr b="0" lang="en-US" sz="21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Opportunità legate alla possibilità di tradurre l’informazione in formato elettronico in diverse modalità percettive</a:t>
            </a:r>
            <a:endParaRPr b="0" lang="en-US" sz="21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Un sito accessibile fornisce vantaggi anche alla generalità degli utenti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5. Creare tabelle che si trasformino in maniera adeguata </a:t>
            </a:r>
            <a:endParaRPr b="0" lang="en-US" sz="24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le tabelle abbiano i markup necessari per trasformarsi adeguatamente con l’uso di browser alternativi </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tabelle di dati specificare l’intestazione di riga e di colonna. In HTML usare sempre TD per le celle e TH per l’header  [Priorità 1]</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tabelle di dati che hanno due o più livelli logici di intestazione di riga o di colonna. Ad esempio  in HTML, usare THEAD, TFOOT, e TBODY per raggruppare le righe, COL e COLGROUP per raggruppare le colonne, e gli attributi "axis", "scope", and "headers" per descrivere le relazioni tra i dati</a:t>
            </a:r>
            <a:r>
              <a:rPr b="0" lang="it-IT" sz="2600" spc="-1" strike="noStrike">
                <a:solidFill>
                  <a:srgbClr val="000000"/>
                </a:solidFill>
                <a:latin typeface="Arial"/>
              </a:rPr>
              <a:t> </a:t>
            </a:r>
            <a:r>
              <a:rPr b="0" lang="it-IT" sz="2000" spc="-1" strike="noStrike">
                <a:solidFill>
                  <a:srgbClr val="000000"/>
                </a:solidFill>
                <a:latin typeface="Arial"/>
              </a:rPr>
              <a:t>   [Priorità 1]</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uideline 6. Assicurarsi che le pagine contenenti nuove tecnologie  si trasformino in maniera adeguata </a:t>
            </a:r>
            <a:endParaRPr b="0" lang="en-US" sz="2000" spc="-1" strike="noStrike">
              <a:solidFill>
                <a:srgbClr val="000000"/>
              </a:solidFill>
              <a:latin typeface="Arial"/>
            </a:endParaRPr>
          </a:p>
          <a:p>
            <a:pPr lvl="1" marL="743040" indent="-2858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icurarsi che le pagine siano accessibili anche quando le nuove tecnologie non sono disponibili (Es. nuovi Plug-in)  </a:t>
            </a:r>
            <a:endParaRPr b="0" lang="en-US" sz="1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points</a:t>
            </a:r>
            <a:endParaRPr b="0" lang="en-US" sz="2000" spc="-1" strike="noStrike">
              <a:solidFill>
                <a:srgbClr val="000000"/>
              </a:solidFill>
              <a:latin typeface="Arial"/>
            </a:endParaRPr>
          </a:p>
          <a:p>
            <a:pPr lvl="1" marL="743040" indent="-2858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rganizzare la pagina in modo che possa essere letta correttamente anche senza fogli di stile  [Priorità 1]</a:t>
            </a:r>
            <a:endParaRPr b="0" lang="en-US" sz="1800" spc="-1" strike="noStrike">
              <a:solidFill>
                <a:srgbClr val="000000"/>
              </a:solidFill>
              <a:latin typeface="Arial"/>
            </a:endParaRPr>
          </a:p>
          <a:p>
            <a:pPr lvl="1" marL="743040" indent="-2858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icurarsi che il il contenuto equivalente per contenuto dinamico si aggiorni quando il contenuto dinamico cambia</a:t>
            </a:r>
            <a:r>
              <a:rPr b="0" lang="it-IT" sz="2200" spc="-1" strike="noStrike">
                <a:solidFill>
                  <a:srgbClr val="000000"/>
                </a:solidFill>
                <a:latin typeface="Arial"/>
              </a:rPr>
              <a:t> </a:t>
            </a:r>
            <a:r>
              <a:rPr b="0" lang="it-IT" sz="1800" spc="-1" strike="noStrike">
                <a:solidFill>
                  <a:srgbClr val="000000"/>
                </a:solidFill>
                <a:latin typeface="Arial"/>
              </a:rPr>
              <a:t>   [Priorità 1]</a:t>
            </a:r>
            <a:endParaRPr b="0" lang="en-US" sz="1800" spc="-1" strike="noStrike">
              <a:solidFill>
                <a:srgbClr val="000000"/>
              </a:solidFill>
              <a:latin typeface="Arial"/>
            </a:endParaRPr>
          </a:p>
          <a:p>
            <a:pPr lvl="1" marL="743040" indent="-2858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icurarsi che la pagina sia leggibile anche quando script, applett o altri oggetti non siano disponibili o disabilitati. Se non fosse possibile usare la pagina senza script rendere disponibile una pagina testo equivalente o usare scripting server side al posto di scripting client side [Priorità 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7. Assicurarsi che l’utente abbia il controllo di contenuti mutevoli nel tempo possano essere </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oggetti chelampeggiano, si muovono o si auto aggiornano possano essere messi in pausa o stoppati   </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 lo sfarfallio dello schermo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8. Assicurare l’accessibilità alla interfaccia utente</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l’interfaccia utente segua principi di design accessibile: accesso indipendente dal mezzo   </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script e elementi di programmazione che siano compatibili con tecnologie che assistono alla navigazione  [Priorità 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9. Design indipendente dall’interfaccia</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funzionalità che permettano l’attivazione degli elementi della pagina da diversi dispositivi di input   </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ere disponibili image-map lato client piuttosto che lato server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shortcut da tastiera per link importanti. Ad esempio in HTML specificare gli shortcut attraverso l’attributo “accesskey” [Priorità 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0. Usare tecnologie “di passaggio”</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nere presente l’esistenza di browser datati e delle tecnologie di navigazione assistita in modo da renderne possibile il funzionamento  </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ere possibile disabilitare i pop-up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1. Usare tecnologie e linee guida W3C</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 nonostante gli sforzi non si riesce a creare una pagina accessibile, rendere disponibile un link ad una pagina alternativa che usi le tecnologie e le linee guida W3C con informazione equivalente e stessa frequenza di aggiornamento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n usare funzionalità deprecate dal W3C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2. Rendere disponibili informazioni sul contesto e informazioni di orientamento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egnare un titolo ad ogni frame per facilitarne l’identificazione e la navigazione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videre larghi blocchi di informazione in gruppi più appropriati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3. Rendere disponibile un chiaro meccanismo di navigazion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re chiaramente il target di ogni link. In HTML scrivere “informazioni su W3C” invece di “clicca qui”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metodi meccanismi di navigazione in modo consistente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barre di navigazione del sito [Priorità 3]</a:t>
            </a:r>
            <a:endParaRPr b="0" lang="en-US" sz="2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4. Assicurare che il documento sia chiaro e semplic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il linguaggio più semplice e adeguato per il contenuto del sito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o stile di presentazione che sia coerente in tutto il sito  [Priorità 3]</a:t>
            </a:r>
            <a:endParaRPr b="0" lang="en-US" sz="2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Un utente potrebbe:</a:t>
            </a:r>
            <a:endParaRPr b="0" lang="en-US" sz="21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on essere in grado di vedere, udire, muoversi o elaborare alcuni tipi di informazion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vere difficoltà a leggere o comprendere il test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on essere in grado di usare un mouse o una tastier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vere uno schermo che visualizza solo testo, un piccolo schermo o una connessione lenta ad Interne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on comprendere il linguaggio nativo del document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vere una vecchia versione del browser, un diverso browser, un voice browser….</a:t>
            </a:r>
            <a:endParaRPr b="0" lang="en-US" sz="2200" spc="-1" strike="noStrike">
              <a:solidFill>
                <a:srgbClr val="000000"/>
              </a:solidFill>
              <a:latin typeface="Arial"/>
            </a:endParaRPr>
          </a:p>
        </p:txBody>
      </p:sp>
      <p:sp>
        <p:nvSpPr>
          <p:cNvPr id="89"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3333ff"/>
                </a:solidFill>
                <a:latin typeface="Arial Narrow"/>
              </a:rPr>
              <a:t> </a:t>
            </a:r>
            <a:r>
              <a:rPr b="0" lang="it-IT" sz="3400" spc="-1" strike="noStrike">
                <a:solidFill>
                  <a:srgbClr val="3333ff"/>
                </a:solidFill>
                <a:latin typeface="Arial Narrow"/>
              </a:rPr>
              <a:t>Limiti dell’utent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Narrow"/>
              </a:rPr>
              <a:t> </a:t>
            </a:r>
            <a:r>
              <a:rPr b="0" lang="en-US" sz="3400" spc="-1" strike="noStrike">
                <a:solidFill>
                  <a:srgbClr val="3333ff"/>
                </a:solidFill>
                <a:latin typeface="Arial Narrow"/>
              </a:rPr>
              <a:t> </a:t>
            </a:r>
            <a:endParaRPr b="0" lang="en-US" sz="3400" spc="-1" strike="noStrike">
              <a:solidFill>
                <a:srgbClr val="006633"/>
              </a:solidFill>
              <a:latin typeface="Garamond"/>
            </a:endParaRPr>
          </a:p>
        </p:txBody>
      </p:sp>
      <p:sp>
        <p:nvSpPr>
          <p:cNvPr id="130" name="PlaceHolder 2"/>
          <p:cNvSpPr>
            <a:spLocks noGrp="1"/>
          </p:cNvSpPr>
          <p:nvPr>
            <p:ph/>
          </p:nvPr>
        </p:nvSpPr>
        <p:spPr>
          <a:xfrm>
            <a:off x="76320" y="1676520"/>
            <a:ext cx="9067680" cy="4171680"/>
          </a:xfrm>
          <a:prstGeom prst="rect">
            <a:avLst/>
          </a:prstGeom>
          <a:noFill/>
          <a:ln w="0">
            <a:noFill/>
          </a:ln>
        </p:spPr>
        <p:txBody>
          <a:bodyPr lIns="90000" rIns="90000" tIns="46800" bIns="46800"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ttare separatamente, il contenuto, la struttura e la presentazione di una pagina, facendo uso di "fogli di stile"</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 usare il colore come unico veicolo di informazione </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are grandezze relative per indicare le dimensioni e la posizione delle componenti di una pagina </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re documenti "scalabili” che non dipendono da un solo tipo di hardware</a:t>
            </a:r>
            <a:endParaRPr b="0" lang="en-US" sz="2200" spc="-1" strike="noStrike">
              <a:solidFill>
                <a:srgbClr val="000000"/>
              </a:solidFill>
              <a:latin typeface="Arial"/>
            </a:endParaRPr>
          </a:p>
        </p:txBody>
      </p:sp>
      <p:sp>
        <p:nvSpPr>
          <p:cNvPr id="131"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Sintesi raccomandazion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3"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a:bodyPr>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ornire testo equivalente a immagini, video e contenuto multimediale</a:t>
            </a:r>
            <a:endParaRPr b="0" lang="en-US" sz="22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rredare le immagini di descrizioni testuali (es. "alt" di HTML) per indicare la funzione dell’immagine o la descrizione del contenuto (es. "longdesc" o "description link" in HTML) quando è importante per la comprensione del documento</a:t>
            </a:r>
            <a:endParaRPr b="0" lang="en-US" sz="20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rredare le componenti sonore di segnalazioni alternative visive </a:t>
            </a:r>
            <a:endParaRPr b="0" lang="en-US" sz="22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Sintesi raccomandazion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6840" y="1828800"/>
            <a:ext cx="8178840" cy="4176720"/>
          </a:xfrm>
          <a:prstGeom prst="rect">
            <a:avLst/>
          </a:prstGeom>
          <a:noFill/>
          <a:ln w="0">
            <a:noFill/>
          </a:ln>
        </p:spPr>
        <p:txBody>
          <a:bodyPr lIns="90000" rIns="90000" tIns="46800" bIns="46800" anchor="t">
            <a:normAutofit/>
          </a:bodyPr>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Usare parole o brevi frasi di chiaro e univoco significato anche fuori del contesto </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eguire la stessa regola anche per la didascalia alternativa di collegamenti realizzati con immagini o simboli grafici </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revedere procedure alternative a script, applet …. nel caso che non siano gestibili con i comuni ausili usati dagli utenti disabili. </a:t>
            </a:r>
            <a:endParaRPr b="0" lang="en-US" sz="2200" spc="-1" strike="noStrike">
              <a:solidFill>
                <a:srgbClr val="000000"/>
              </a:solidFill>
              <a:latin typeface="Arial"/>
            </a:endParaRPr>
          </a:p>
          <a:p>
            <a:pPr lvl="1" marL="743040" indent="-2858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revedere un messaggio di avvertimento di apertura di una finestra. </a:t>
            </a:r>
            <a:endParaRPr b="0" lang="en-US" sz="2200" spc="-1" strike="noStrike">
              <a:solidFill>
                <a:srgbClr val="000000"/>
              </a:solidFill>
              <a:latin typeface="Arial"/>
            </a:endParaRPr>
          </a:p>
        </p:txBody>
      </p:sp>
      <p:sp>
        <p:nvSpPr>
          <p:cNvPr id="136"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Sintesi raccomandazion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are l’uso di frame ai casi di vera utilità</a:t>
            </a:r>
            <a:endParaRPr b="0" lang="en-US" sz="21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Una presentazione ristretta ad una porzione di schermo può creare problemi alle persone ipovedenti che preferiscono sfruttare tutta la larghezza dello schermo per la lettura con caratteri ingranditi, evitando più che è possibile lo scorrimento orizzontale del testo</a:t>
            </a:r>
            <a:endParaRPr b="0" lang="en-US" sz="19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are l’uso di tabelle ai casi di vera utilità</a:t>
            </a:r>
            <a:endParaRPr b="0" lang="en-US" sz="21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sicurarsi che il contenuto e la struttura delle tabelle risultino chiari anche quando la tabella stessa viene letta cella dopo cella e una riga alla volta </a:t>
            </a:r>
            <a:endParaRPr b="0" lang="en-US" sz="19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9"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Sintesi raccomandazion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 </a:t>
            </a:r>
            <a:r>
              <a:rPr b="0" lang="it-IT" sz="3400" spc="-1" strike="noStrike">
                <a:solidFill>
                  <a:srgbClr val="3333ff"/>
                </a:solidFill>
                <a:latin typeface="Arial Narrow"/>
              </a:rPr>
              <a:t>Browsers alternativi</a:t>
            </a:r>
            <a:endParaRPr b="0" lang="en-US" sz="3400" spc="-1" strike="noStrike">
              <a:solidFill>
                <a:srgbClr val="006633"/>
              </a:solidFill>
              <a:latin typeface="Garamond"/>
            </a:endParaRPr>
          </a:p>
        </p:txBody>
      </p:sp>
      <p:sp>
        <p:nvSpPr>
          <p:cNvPr id="141" name="PlaceHolder 2"/>
          <p:cNvSpPr>
            <a:spLocks noGrp="1"/>
          </p:cNvSpPr>
          <p:nvPr>
            <p:ph/>
          </p:nvPr>
        </p:nvSpPr>
        <p:spPr>
          <a:xfrm>
            <a:off x="457200" y="1599840"/>
            <a:ext cx="8686800" cy="4172040"/>
          </a:xfrm>
          <a:prstGeom prst="rect">
            <a:avLst/>
          </a:prstGeom>
          <a:noFill/>
          <a:ln w="0">
            <a:noFill/>
          </a:ln>
        </p:spPr>
        <p:txBody>
          <a:bodyPr lIns="90000" rIns="90000" tIns="46800" bIns="46800" anchor="t">
            <a:normAutofit fontScale="92000"/>
          </a:bodyPr>
          <a:p>
            <a:pPr marL="315360" indent="-31536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Browsers specifically designed for disabled people</a:t>
            </a:r>
            <a:endParaRPr b="0" lang="en-US" sz="21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Speech output, simple keyboard interface / standard graphical user interface</a:t>
            </a:r>
            <a:endParaRPr b="0" lang="en-US" sz="17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Speech output, Braille support, special screen fonts</a:t>
            </a:r>
            <a:endParaRPr b="0" lang="en-US" sz="1700" spc="-1" strike="noStrike">
              <a:solidFill>
                <a:srgbClr val="000000"/>
              </a:solidFill>
              <a:latin typeface="Arial"/>
            </a:endParaRPr>
          </a:p>
          <a:p>
            <a:pPr marL="315360" indent="-31536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creen readers</a:t>
            </a:r>
            <a:endParaRPr b="0" lang="en-US" sz="21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avigation of the screen presented by the operating system, using speech or Braille output</a:t>
            </a:r>
            <a:endParaRPr b="0" lang="en-US" sz="1700" spc="-1" strike="noStrike">
              <a:solidFill>
                <a:srgbClr val="000000"/>
              </a:solidFill>
              <a:latin typeface="Arial"/>
            </a:endParaRPr>
          </a:p>
          <a:p>
            <a:pPr marL="315360" indent="-31536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Adaptive browsers</a:t>
            </a:r>
            <a:endParaRPr b="0" lang="en-US" sz="21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nhanced screen magnification or navigation options</a:t>
            </a:r>
            <a:endParaRPr b="0" lang="en-US" sz="1700" spc="-1" strike="noStrike">
              <a:solidFill>
                <a:srgbClr val="000000"/>
              </a:solidFill>
              <a:latin typeface="Arial"/>
            </a:endParaRPr>
          </a:p>
          <a:p>
            <a:pPr marL="315360" indent="-31536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Voice browsers</a:t>
            </a:r>
            <a:endParaRPr b="0" lang="en-US" sz="21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voice-driven navigation, (voice-in/ voice-out, telephone-based web access).</a:t>
            </a:r>
            <a:endParaRPr b="0" lang="en-US" sz="1700" spc="-1" strike="noStrike">
              <a:solidFill>
                <a:srgbClr val="000000"/>
              </a:solidFill>
              <a:latin typeface="Arial"/>
            </a:endParaRPr>
          </a:p>
          <a:p>
            <a:pPr marL="315360" indent="-31536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Other access methods</a:t>
            </a:r>
            <a:endParaRPr b="0" lang="en-US" sz="2100" spc="-1" strike="noStrike">
              <a:solidFill>
                <a:srgbClr val="000000"/>
              </a:solidFill>
              <a:latin typeface="Arial"/>
            </a:endParaRPr>
          </a:p>
          <a:p>
            <a:pPr lvl="1" marL="616320" indent="-29916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mage sonification" technique / E-mail retrieval</a:t>
            </a:r>
            <a:r>
              <a:rPr b="0" lang="it-IT"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1" name="PlaceHolder 2"/>
          <p:cNvSpPr>
            <a:spLocks noGrp="1"/>
          </p:cNvSpPr>
          <p:nvPr>
            <p:ph/>
          </p:nvPr>
        </p:nvSpPr>
        <p:spPr>
          <a:xfrm>
            <a:off x="456840" y="1752480"/>
            <a:ext cx="8178840" cy="417672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cessibilità di siti e documenti disponibili nel Web significa garantire la possibilità di:</a:t>
            </a:r>
            <a:endParaRPr b="0" lang="en-US" sz="2100" spc="-1" strike="noStrike">
              <a:solidFill>
                <a:srgbClr val="000000"/>
              </a:solidFill>
              <a:latin typeface="Arial"/>
            </a:endParaRPr>
          </a:p>
          <a:p>
            <a:pPr lvl="1" marL="669960" indent="-3254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entarsi e navigare all’interno di un sito </a:t>
            </a:r>
            <a:endParaRPr b="0" lang="en-US" sz="2200" spc="-1" strike="noStrike">
              <a:solidFill>
                <a:srgbClr val="000000"/>
              </a:solidFill>
              <a:latin typeface="Arial"/>
            </a:endParaRPr>
          </a:p>
          <a:p>
            <a:pPr lvl="1" marL="669960" indent="-3254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ggere i contenuti delle pagine </a:t>
            </a:r>
            <a:endParaRPr b="0" lang="en-US" sz="2200" spc="-1" strike="noStrike">
              <a:solidFill>
                <a:srgbClr val="000000"/>
              </a:solidFill>
              <a:latin typeface="Arial"/>
            </a:endParaRPr>
          </a:p>
          <a:p>
            <a:pPr lvl="1" marL="669960" indent="-325440">
              <a:spcBef>
                <a:spcPts val="499"/>
              </a:spcBef>
              <a:spcAft>
                <a:spcPts val="499"/>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gire con le procedure che prevedono scelte, immissione di dati</a:t>
            </a:r>
            <a:endParaRPr b="0" lang="en-US" sz="2200" spc="-1" strike="noStrike">
              <a:solidFill>
                <a:srgbClr val="000000"/>
              </a:solidFill>
              <a:latin typeface="Arial"/>
            </a:endParaRPr>
          </a:p>
          <a:p>
            <a:pPr lvl="1" marL="669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ontenuti e le procedure devono essere fruibili da utenti dotati di browser con diverse configurazioni</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 </a:t>
            </a:r>
            <a:endParaRPr b="0" lang="en-US" sz="3400" spc="-1" strike="noStrike">
              <a:solidFill>
                <a:srgbClr val="006633"/>
              </a:solidFill>
              <a:latin typeface="Garamond"/>
            </a:endParaRPr>
          </a:p>
        </p:txBody>
      </p:sp>
      <p:sp>
        <p:nvSpPr>
          <p:cNvPr id="93" name="PlaceHolder 2"/>
          <p:cNvSpPr>
            <a:spLocks noGrp="1"/>
          </p:cNvSpPr>
          <p:nvPr>
            <p:ph/>
          </p:nvPr>
        </p:nvSpPr>
        <p:spPr>
          <a:xfrm>
            <a:off x="179280" y="1628280"/>
            <a:ext cx="8686800" cy="41720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linea guida ha una serie di checkpoint che dettagliano come applicare la linea guida in tipici contesti di sviluppo di pagine web</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check point ha un livello di priorità in base al suo impatto sull’acccessibilità</a:t>
            </a:r>
            <a:endParaRPr b="0" lang="en-US" sz="1800" spc="-1" strike="noStrike">
              <a:solidFill>
                <a:srgbClr val="000000"/>
              </a:solidFill>
              <a:latin typeface="Arial"/>
            </a:endParaRPr>
          </a:p>
          <a:p>
            <a:pPr marL="332640" indent="-3326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livelli di priorità sono 3:</a:t>
            </a:r>
            <a:endParaRPr b="0" lang="en-US" sz="1800" spc="-1" strike="noStrike">
              <a:solidFill>
                <a:srgbClr val="000000"/>
              </a:solidFill>
              <a:latin typeface="Arial"/>
            </a:endParaRPr>
          </a:p>
          <a:p>
            <a:pPr lvl="1" marL="720720" indent="-27720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a:t>
            </a:r>
            <a:r>
              <a:rPr b="1" lang="it-IT" sz="1600" spc="-1" strike="noStrike">
                <a:solidFill>
                  <a:srgbClr val="000000"/>
                </a:solidFill>
                <a:latin typeface="Arial"/>
              </a:rPr>
              <a:t>Priorità 1] </a:t>
            </a:r>
            <a:endParaRPr b="0" lang="en-US" sz="1600" spc="-1" strike="noStrike">
              <a:solidFill>
                <a:srgbClr val="000000"/>
              </a:solidFill>
              <a:latin typeface="Arial"/>
            </a:endParaRPr>
          </a:p>
          <a:p>
            <a:pPr lvl="2" marL="1108440" indent="-221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ito web </a:t>
            </a:r>
            <a:r>
              <a:rPr b="1" lang="it-IT" sz="1800" spc="-1" strike="noStrike">
                <a:solidFill>
                  <a:srgbClr val="000000"/>
                </a:solidFill>
                <a:latin typeface="Arial"/>
              </a:rPr>
              <a:t>deve</a:t>
            </a:r>
            <a:r>
              <a:rPr b="0" lang="it-IT" sz="1800" spc="-1" strike="noStrike">
                <a:solidFill>
                  <a:srgbClr val="000000"/>
                </a:solidFill>
                <a:latin typeface="Arial"/>
              </a:rPr>
              <a:t> osservare questi check point  altrimenti l’informazione non risulta accessibile a uno o più gruppi di utenti.</a:t>
            </a:r>
            <a:endParaRPr b="0" lang="en-US" sz="1800" spc="-1" strike="noStrike">
              <a:solidFill>
                <a:srgbClr val="000000"/>
              </a:solidFill>
              <a:latin typeface="Arial"/>
            </a:endParaRPr>
          </a:p>
          <a:p>
            <a:pPr lvl="1" marL="720720" indent="-27720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iorità 2] </a:t>
            </a:r>
            <a:endParaRPr b="0" lang="en-US" sz="1600" spc="-1" strike="noStrike">
              <a:solidFill>
                <a:srgbClr val="000000"/>
              </a:solidFill>
              <a:latin typeface="Arial"/>
            </a:endParaRPr>
          </a:p>
          <a:p>
            <a:pPr lvl="2" marL="1108440" indent="-221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ito web </a:t>
            </a:r>
            <a:r>
              <a:rPr b="1" lang="it-IT" sz="1800" spc="-1" strike="noStrike">
                <a:solidFill>
                  <a:srgbClr val="000000"/>
                </a:solidFill>
                <a:latin typeface="Arial"/>
              </a:rPr>
              <a:t>dovrebbe</a:t>
            </a:r>
            <a:r>
              <a:rPr b="0" lang="it-IT" sz="1800" spc="-1" strike="noStrike">
                <a:solidFill>
                  <a:srgbClr val="000000"/>
                </a:solidFill>
                <a:latin typeface="Arial"/>
              </a:rPr>
              <a:t> osservare questi check point altrimenti l’informazione risulterà difficilmente accessibile a uno o più gruppi di utenti. Osservare questi check point riduce notevolmente le barriere di accesso al contenuto</a:t>
            </a:r>
            <a:endParaRPr b="0" lang="en-US" sz="1800" spc="-1" strike="noStrike">
              <a:solidFill>
                <a:srgbClr val="000000"/>
              </a:solidFill>
              <a:latin typeface="Arial"/>
            </a:endParaRPr>
          </a:p>
          <a:p>
            <a:pPr lvl="1" marL="720720" indent="-27720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iorità 3] </a:t>
            </a:r>
            <a:endParaRPr b="0" lang="en-US" sz="1600" spc="-1" strike="noStrike">
              <a:solidFill>
                <a:srgbClr val="000000"/>
              </a:solidFill>
              <a:latin typeface="Arial"/>
            </a:endParaRPr>
          </a:p>
          <a:p>
            <a:pPr lvl="2" marL="1108440" indent="-221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pagina web </a:t>
            </a:r>
            <a:r>
              <a:rPr b="1" lang="it-IT" sz="1800" spc="-1" strike="noStrike">
                <a:solidFill>
                  <a:srgbClr val="000000"/>
                </a:solidFill>
                <a:latin typeface="Arial"/>
              </a:rPr>
              <a:t>può</a:t>
            </a:r>
            <a:r>
              <a:rPr b="0" lang="it-IT" sz="1800" spc="-1" strike="noStrike">
                <a:solidFill>
                  <a:srgbClr val="000000"/>
                </a:solidFill>
                <a:latin typeface="Arial"/>
              </a:rPr>
              <a:t> osservare questi check point altrimenti l’informazione può risultare in qualche modo difficilmente accessibile a uno o più gruppi di utenti</a:t>
            </a:r>
            <a:endParaRPr b="0" lang="en-US" sz="1800" spc="-1" strike="noStrike">
              <a:solidFill>
                <a:srgbClr val="000000"/>
              </a:solidFill>
              <a:latin typeface="Arial"/>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3333ff"/>
                </a:solidFill>
                <a:latin typeface="Arial Narrow"/>
              </a:rPr>
              <a:t>Linee guida W3C: check poi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 </a:t>
            </a:r>
            <a:endParaRPr b="0" lang="en-US" sz="3400" spc="-1" strike="noStrike">
              <a:solidFill>
                <a:srgbClr val="006633"/>
              </a:solidFill>
              <a:latin typeface="Garamond"/>
            </a:endParaRPr>
          </a:p>
        </p:txBody>
      </p:sp>
      <p:sp>
        <p:nvSpPr>
          <p:cNvPr id="96"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SI definiscono tre livelli di conformità per un sito web</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Conformità di livello A</a:t>
            </a:r>
            <a:r>
              <a:rPr b="1" lang="it-IT" sz="2100" spc="-1" strike="noStrike">
                <a:solidFill>
                  <a:srgbClr val="000000"/>
                </a:solidFill>
                <a:latin typeface="Arial"/>
              </a:rPr>
              <a:t> </a:t>
            </a:r>
            <a:endParaRPr b="0" lang="en-US" sz="2100" spc="-1" strike="noStrike">
              <a:solidFill>
                <a:srgbClr val="000000"/>
              </a:solidFill>
              <a:latin typeface="Arial"/>
            </a:endParaRPr>
          </a:p>
          <a:p>
            <a:pPr lvl="2" marL="1143000" indent="-2286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ono stati rispettati tutti i check point di Priorità 1</a:t>
            </a:r>
            <a:endParaRPr b="0" lang="en-US" sz="2200" spc="-1" strike="noStrike">
              <a:solidFill>
                <a:srgbClr val="000000"/>
              </a:solidFill>
              <a:latin typeface="Arial"/>
            </a:endParaRPr>
          </a:p>
          <a:p>
            <a:pPr lvl="1" marL="743040" indent="-28584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Conformità di livello AA</a:t>
            </a:r>
            <a:r>
              <a:rPr b="1" lang="it-IT" sz="2100" spc="-1" strike="noStrike">
                <a:solidFill>
                  <a:srgbClr val="000000"/>
                </a:solidFill>
                <a:latin typeface="Arial"/>
              </a:rPr>
              <a:t> </a:t>
            </a:r>
            <a:endParaRPr b="0" lang="en-US" sz="2100" spc="-1" strike="noStrike">
              <a:solidFill>
                <a:srgbClr val="000000"/>
              </a:solidFill>
              <a:latin typeface="Arial"/>
            </a:endParaRPr>
          </a:p>
          <a:p>
            <a:pPr lvl="2" marL="1143000" indent="-2286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ono stati rispettati tutti i check point di Priorità 1 e 2</a:t>
            </a:r>
            <a:endParaRPr b="0" lang="en-US" sz="2200" spc="-1" strike="noStrike">
              <a:solidFill>
                <a:srgbClr val="000000"/>
              </a:solidFill>
              <a:latin typeface="Arial"/>
            </a:endParaRPr>
          </a:p>
          <a:p>
            <a:pPr lvl="1" marL="743040" indent="-28584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Conformità di livello AAA</a:t>
            </a:r>
            <a:r>
              <a:rPr b="1" lang="it-IT" sz="2100" spc="-1" strike="noStrike">
                <a:solidFill>
                  <a:srgbClr val="000000"/>
                </a:solidFill>
                <a:latin typeface="Arial"/>
              </a:rPr>
              <a:t> </a:t>
            </a:r>
            <a:endParaRPr b="0" lang="en-US" sz="2100" spc="-1" strike="noStrike">
              <a:solidFill>
                <a:srgbClr val="000000"/>
              </a:solidFill>
              <a:latin typeface="Arial"/>
            </a:endParaRPr>
          </a:p>
          <a:p>
            <a:pPr lvl="2" marL="1143000" indent="-2286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ono stati rispettati tutti i check point di Priorità 1,2 e 3</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7" name="" descr=""/>
          <p:cNvPicPr/>
          <p:nvPr/>
        </p:nvPicPr>
        <p:blipFill>
          <a:blip r:embed="rId1"/>
          <a:stretch/>
        </p:blipFill>
        <p:spPr>
          <a:xfrm>
            <a:off x="6084720" y="2565360"/>
            <a:ext cx="1224000" cy="444600"/>
          </a:xfrm>
          <a:prstGeom prst="rect">
            <a:avLst/>
          </a:prstGeom>
          <a:ln w="0">
            <a:noFill/>
          </a:ln>
        </p:spPr>
      </p:pic>
      <p:sp>
        <p:nvSpPr>
          <p:cNvPr id="98"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 W3C: Conformità</a:t>
            </a:r>
            <a:endParaRPr b="0" lang="en-US" sz="3400" spc="-1" strike="noStrike">
              <a:solidFill>
                <a:srgbClr val="000000"/>
              </a:solidFill>
              <a:latin typeface="Arial"/>
            </a:endParaRPr>
          </a:p>
        </p:txBody>
      </p:sp>
      <p:pic>
        <p:nvPicPr>
          <p:cNvPr id="99" name="" descr=""/>
          <p:cNvPicPr/>
          <p:nvPr/>
        </p:nvPicPr>
        <p:blipFill>
          <a:blip r:embed="rId2"/>
          <a:stretch/>
        </p:blipFill>
        <p:spPr>
          <a:xfrm>
            <a:off x="6084720" y="3573360"/>
            <a:ext cx="1224000" cy="432000"/>
          </a:xfrm>
          <a:prstGeom prst="rect">
            <a:avLst/>
          </a:prstGeom>
          <a:ln w="0">
            <a:noFill/>
          </a:ln>
        </p:spPr>
      </p:pic>
      <p:pic>
        <p:nvPicPr>
          <p:cNvPr id="100" name="" descr=""/>
          <p:cNvPicPr/>
          <p:nvPr/>
        </p:nvPicPr>
        <p:blipFill>
          <a:blip r:embed="rId3"/>
          <a:stretch/>
        </p:blipFill>
        <p:spPr>
          <a:xfrm>
            <a:off x="6083280" y="4437000"/>
            <a:ext cx="1225440" cy="44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1. Offrire informazione equivalente per contenuto uditivo o visiv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enuto testo equivalente per ciascun contenuto non testo ( es.”alt” per le immagini) [Priorità 1]</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ink testuali per ogni regione di una image-map </a:t>
            </a:r>
            <a:r>
              <a:rPr b="0" lang="it-IT" sz="1800" spc="-1" strike="noStrike">
                <a:solidFill>
                  <a:srgbClr val="000000"/>
                </a:solidFill>
                <a:latin typeface="Arial"/>
              </a:rPr>
              <a:t>[Priorità 1]</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dere testo equivalente per la descrizione diogni contenuto multimediale [Priorità 1]</a:t>
            </a: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2. Non affidarsi ai colori</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il testo e la grafica siano comprensibili anche se visti senza colori</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ogni tipo di informazione legata al colore sia comprensibile anche in assenza di colori attraverso il contesto o il markup [Priorità 1]</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rsi che la combinazione di colori di sfondo e quelli di primo piano realizzino un adeguato contesto [Priorità 2 per le immagini, Priorità 3 per il testo]</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3. Usare markup e fogli di stile e farlo in modo appropriat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esiste uno specifico linguaggio di markup per il contenuto deve essere usato ( Ad esempio usare MathML per equazioni e formule)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fogli di stile per controllare il layout e la presentazione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gli header in accordo con la struttura del documento e non per ottenere effetti sui font [priorità 2]</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ideline 4. Rendere chiaro l’uso di linguaggio corrente</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markup che facilitino l’interpretazione di abbreviazioni e di parole straniere</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ckpoints</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re il linguaggio primario di un documento. In HTML settare l’attributo “lang” nell’elemento HTML [Priorità 3]</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are l’espansione di ogni abbreviazione  [Priorità 3]</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ff"/>
                </a:solidFill>
                <a:latin typeface="Arial Narrow"/>
              </a:rPr>
              <a:t>Linee gui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15:10:22Z</dcterms:created>
  <dc:creator>Carlo Torniai</dc:creator>
  <dc:description/>
  <dc:language>en-US</dc:language>
  <cp:lastModifiedBy>Admin</cp:lastModifiedBy>
  <dcterms:modified xsi:type="dcterms:W3CDTF">2003-07-10T13:00:45Z</dcterms:modified>
  <cp:revision>21</cp:revision>
  <dc:subject/>
  <dc:title>Diapositiva 1</dc:title>
</cp:coreProperties>
</file>