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721-6B45-43AB-855C-346A2A9B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EDB-7AD4-4A13-BE54-3F3F24A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96E-8D04-4935-92D6-32F09D5E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DFA-2CF1-444B-BE77-FB887A4E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802-E32C-4217-B174-9B13B4D4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C6F-9728-4078-89F1-33C7599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7660-7B67-4164-BC2E-216C3B8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C1A-0B41-4C8B-A0A2-86E5078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8F5-28CE-464F-A04B-F46F8ABD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B3B4-55B7-4995-BCFA-4C78965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9C7-67B0-4CC2-97AA-117CAF1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437-BD13-48ED-AEA5-844F39E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0BF-AB82-45F6-A15B-2BE22FB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783D-8958-404C-B88C-9931886D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6A3-5C61-4528-BC5C-38EEE2AE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8C2D-BC14-4330-B325-B303B2D5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7ABB-1411-4EA7-91C4-7E7538CB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DA3-51EC-4B4A-A46F-EB598CB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4D4-329A-4327-81C5-54A7487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825-168E-4888-BF9E-4DF7DF45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E5E-86FC-4069-9330-BF87B580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F7F-AA10-4C54-8D9E-DB4B8BB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F7A-62D6-4B8A-8760-CB8C866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306-5BDB-4392-9694-0DD7941A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8/02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7543-494B-43AC-AAA0-C9F2603E7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98DE-723F-4C97-887C-46214D576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agina12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agina13.html" TargetMode="External"/><Relationship Id="rId2" Type="http://schemas.openxmlformats.org/officeDocument/2006/relationships/hyperlink" Target="file:///pagina13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pagina15.html" TargetMode="External"/><Relationship Id="rId2" Type="http://schemas.openxmlformats.org/officeDocument/2006/relationships/hyperlink" Target="file:///pagina15.html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agina16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agina17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pagina18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pagina19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agina10.html" TargetMode="External"/><Relationship Id="rId2" Type="http://schemas.openxmlformats.org/officeDocument/2006/relationships/hyperlink" Target="file:///pagina10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agina11.html" TargetMode="External"/><Relationship Id="rId2" Type="http://schemas.openxmlformats.org/officeDocument/2006/relationships/hyperlink" Target="file:///pagina11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l linguaggio HTM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Inserire contenuti multimediali “interni”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Inserire contenuti multimediali “interni”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'inserimento di contenuti interni è invece leggermente più complesso e richiede l'uso di appositi tag come  &lt;OBJECT&gt;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viene focalizzare l’attenzione solo sul tag &lt;OBJECT&gt; che è quello raccomandato dal W3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Inserire contenuti multimediali “interni”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inserire una animazione Macromedia Flash all’interno della pagina HTML, andrà usato il tag &lt;OBJECT&gt; corredato dagli appositi parametri. Ogni plug-in, secondo le specifiche del produttore, usa i propri parametri.</a:t>
            </a:r>
            <a:r>
              <a:rPr b="0" lang="it-IT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	Vedi la pagina 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bcbcb"/>
                </a:solidFill>
                <a:latin typeface="Times New Roman"/>
              </a:rPr>
              <a:t>Concetti ulteriori delle pagine HTML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Concetti ulteriori delle pagine HTML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sto preformatt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o dei vantaggi del Web è che il testo slitta automaticamente su più righe per adattare i margini alla grandezza della finestra corrente. A volte però potreste voler disabilitare questo comportamento. Per esempio quando state inserendo esempi di codice di programmazione. Potete fare ciò utilizzando l'elemen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d esempio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vedi la pagina </a:t>
            </a:r>
            <a:r>
              <a:rPr b="0" lang="it-IT" sz="12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Aggiungere mappe immag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'elemento area ha la funzione di definire una regione dell'immagine e di collegarla a un indirizzo Internet.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shap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può assumere i valori "rect", "circle" o "poly".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"coords"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pecifica le coordinate per una regione a seconda della for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ect: 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sinistra-x, alto-y, destra-x, basso-y</a:t>
            </a:r>
            <a:r>
              <a:rPr b="0" lang="it-IT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ircle: 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centro-x, centro-y, raggio</a:t>
            </a:r>
            <a:r>
              <a:rPr b="0" lang="it-IT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oly: 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 x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 ... x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n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</a:t>
            </a: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2"/>
              </a:rPr>
              <a:t>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Usare tab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 tabelle sono utilizzate sia per fornire informazioni sia a fini di presentazione. Potete allargare le tabelle fino a farle coincidere con i margini della pagina, specificare una larghezza fissa o lasciare che sia il browser a dimensionare la tabella per adattarla ai contenu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Usare tab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emp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bcbcb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bcbcb"/>
                </a:solidFill>
                <a:latin typeface="Courier New"/>
              </a:rPr>
              <a:t>&lt;table border="1"&gt; &lt;tr&gt;&lt;th&gt;Anno&lt;/th&gt;&lt;th&gt;Vendite&lt;/th&gt;&lt;/tr&gt; &lt;tr&gt;&lt;td&gt;2000&lt;/td&gt;&lt;td&gt;$18M&lt;/td&gt;&lt;/tr&gt; &lt;tr&gt;&lt;td&gt;2001&lt;/td&gt;&lt;td&gt;$25M&lt;/td&gt;&lt;/tr&gt; &lt;tr&gt;&lt;td&gt;2002&lt;/td&gt;&lt;td&gt;$36M&lt;/td&gt;&lt;/tr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bcbcb"/>
                </a:solidFill>
                <a:latin typeface="Courier New"/>
              </a:rPr>
              <a:t>&lt;/table&gt;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Times New Roman"/>
              </a:rPr>
              <a:t>Spaziatura interna delle c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tete incrementare per tutte le celle della tabella la spaziatura interna [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istanza tra il margine esterno della cella e l'inizio del contenu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] usando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cellpad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ll'elemento table. Per esempio, per impostare la spaziatura interna a 10 pixe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bcbcb"/>
                </a:solidFill>
                <a:latin typeface="Courier New"/>
              </a:rPr>
              <a:t>&lt;table border="1" cellpadding="10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Aggiungere atributi alle tab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contro,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cellspac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termina lo spazio tra le celle. Ecco come impostare la spaziatura tra le celle a 10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bcbcb"/>
                </a:solidFill>
                <a:latin typeface="Courier New"/>
              </a:rPr>
              <a:t>&lt;table border="1" cellpadding="10" cellspacing="1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troduzi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erire contenuti multimedi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erire contenuti multimediali “intern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cetti ulteriori delle pagine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ntestazioni e paragraf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enfasi al tes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mmagi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collegamenti ad altre pag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sare vari tipi di li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Times New Roman"/>
              </a:rPr>
              <a:t>Allineamento del testo nelle c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impostazione predefinita i browser centrano le intestazioni delle celle (th) ed allineano a sinistra i dati (td). Potete modificare l'allineamento usando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alig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che può essere aggiunto ad ogni cella o alla riga (elemento tr). E' usato con i valori "left", "center" o "right"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obbiamo prima di tutto distinguere tra due tipi di contenuto multimediale: il contenuto “interno” ed il contenuto “estern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conten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intern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quello che è fruibile direttamente attraverso il browser, mentre quell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estern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richiede del software che non è parte integrante del brow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 tipico contenuto interno è ad esempio una semplice animazione come una gif animata, una applet Java o un controllo Activ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contenuto esterno si può far riferimento ad un filmato mpeg o una sorgente RealAudio ( che comportano l'apertura dell'apposito lett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ziamo a trattare l'inserimento del contenuto esterno che risulta un procedimento piuttosto semplice: l'operazione da effettuare è la scrittura di un link che punti al file multimediale che si desidera mandare in esecuzi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d esempio per inserire il filmato ”libro.mpeg" nella propria pagina è necessario scrive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&lt;A href=”filmato.mov"&gt; Vedi il Filmato 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vedi la pagina </a:t>
            </a: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' consigliabile inserire nel testo allegato ai contenuti multimediali anche qualche informazione riguardo alle dimensioni del file e ai tempi di caric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.: Tempo richiesto per il down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i può anche collegare il filmato ad una immagine o frame signifi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Vedi la pagina </a:t>
            </a: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17:37:18Z</dcterms:created>
  <dc:creator>Marco Bertini</dc:creator>
  <dc:description/>
  <dc:language>en-US</dc:language>
  <cp:lastModifiedBy>Carlo Torniai</cp:lastModifiedBy>
  <cp:lastPrinted>2002-02-28T16:23:44Z</cp:lastPrinted>
  <dcterms:modified xsi:type="dcterms:W3CDTF">2003-04-08T08:41:42Z</dcterms:modified>
  <cp:revision>163</cp:revision>
  <dc:subject/>
  <dc:title>Video Editing</dc:title>
</cp:coreProperties>
</file>