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F5E-2099-40EB-BA81-EE234B19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D0C-A41E-4EE1-920E-F3857E95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1FE-1234-4E0E-8225-23B5C9D6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809-9F48-4B2F-A7B8-A685E5E4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45F9-5F65-4E18-8033-E483C08A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6803-ED57-4AF7-8071-C04A9EFE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B3D2-52CD-4FF4-BAB2-82102E35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A06D-0DD5-448F-86CC-1BC72C21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6478-DEBD-43F1-9BF2-969E6D63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7832-DB42-4118-9CA4-AE2FA294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3CA7-A3EA-485A-92E9-1F93DDC6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693-B41E-4059-BCDE-5FCB482D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2F61-C255-418F-9CE1-E44F2B54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BECA-9AFC-429D-9C27-60B657BA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99E6-A444-4612-B356-F1AB8FD8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83C8-8370-4147-8653-A769CB1C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B6DC-A25E-4030-AB67-C9C7C968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4AF-93B3-48C9-BA46-FB9E5821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8FD-33DF-4D11-BB00-851389C9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84A-4D58-4436-B8BC-17D22BC5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7E1-518B-4F94-92E8-B81915B6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3B0-B934-4204-BCC8-EC5362AC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EF4-47F5-4C62-A998-D3D9A54E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C27-882C-462F-A40D-07DED07B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23A8-1FE2-4C9A-ADD4-8BAD200D72E0}" type="slidenum">
              <a:rPr b="0" lang="it-IT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178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A518-1A2F-4789-9257-012E75EF626C}" type="slidenum">
              <a:rPr b="0" lang="it-IT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Governo%20italiano%20-Usabilit&#224;%20e%20accessibilit&#224;%20dei%20siti%20web%20delle%20pp_aa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ff"/>
                </a:solidFill>
                <a:latin typeface="Tahoma"/>
              </a:rPr>
              <a:t>PART  IV a</a:t>
            </a:r>
            <a:br>
              <a:rPr sz="4000"/>
            </a:br>
            <a:r>
              <a:rPr b="1" lang="it-IT" sz="4000" spc="-1" strike="noStrike">
                <a:solidFill>
                  <a:srgbClr val="3333ff"/>
                </a:solidFill>
                <a:latin typeface="Tahoma"/>
              </a:rPr>
              <a:t>MULTIMEDIA WEB INTERFACES: USABILITY AND ACCESSI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90560" y="3657600"/>
            <a:ext cx="6172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Arial Black"/>
              </a:rPr>
              <a:t>Prof. Alberto Del Bimbo Dipartimento Sistemi e Informatica Università degli Studi di Firenz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Arial Black"/>
              </a:rPr>
              <a:t>Via S. Marta 3 - 50139 - Firenze - Ital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Arial Black"/>
              </a:rPr>
              <a:t>Tel. +39-055-479626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Arial Black"/>
              </a:rPr>
              <a:t>Fax  +39-055-4796363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Arial Black"/>
              </a:rPr>
              <a:t>E-mail delbimbo@dsi.unifi.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ima%206%20apple_home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4876560" cy="3240000"/>
          </a:xfrm>
          <a:prstGeom prst="rect">
            <a:avLst/>
          </a:prstGeom>
          <a:ln w="0">
            <a:noFill/>
          </a:ln>
        </p:spPr>
      </p:pic>
      <p:pic>
        <p:nvPicPr>
          <p:cNvPr id="106" name="ima9%20microsoft_home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4876920" cy="3120840"/>
          </a:xfrm>
          <a:prstGeom prst="rect">
            <a:avLst/>
          </a:prstGeom>
          <a:ln w="0">
            <a:noFill/>
          </a:ln>
        </p:spPr>
      </p:pic>
      <p:pic>
        <p:nvPicPr>
          <p:cNvPr id="107" name="im4%20site_adobe_home" descr=""/>
          <p:cNvPicPr/>
          <p:nvPr/>
        </p:nvPicPr>
        <p:blipFill>
          <a:blip r:embed="rId3"/>
          <a:stretch/>
        </p:blipFill>
        <p:spPr>
          <a:xfrm>
            <a:off x="4114800" y="0"/>
            <a:ext cx="48006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image%205%20kodak_home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4724280" cy="3081240"/>
          </a:xfrm>
          <a:prstGeom prst="rect">
            <a:avLst/>
          </a:prstGeom>
          <a:ln w="0">
            <a:noFill/>
          </a:ln>
        </p:spPr>
      </p:pic>
      <p:pic>
        <p:nvPicPr>
          <p:cNvPr id="111" name="im5%20pbs_home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6483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image%209%20yahoo" descr=""/>
          <p:cNvPicPr/>
          <p:nvPr/>
        </p:nvPicPr>
        <p:blipFill>
          <a:blip r:embed="rId1"/>
          <a:stretch/>
        </p:blipFill>
        <p:spPr>
          <a:xfrm>
            <a:off x="1371600" y="142920"/>
            <a:ext cx="3476520" cy="4124160"/>
          </a:xfrm>
          <a:prstGeom prst="rect">
            <a:avLst/>
          </a:prstGeom>
          <a:ln w="0">
            <a:noFill/>
          </a:ln>
        </p:spPr>
      </p:pic>
      <p:pic>
        <p:nvPicPr>
          <p:cNvPr id="115" name="image%206%20w3c_home" descr=""/>
          <p:cNvPicPr/>
          <p:nvPr/>
        </p:nvPicPr>
        <p:blipFill>
          <a:blip r:embed="rId2"/>
          <a:stretch/>
        </p:blipFill>
        <p:spPr>
          <a:xfrm>
            <a:off x="304920" y="3127320"/>
            <a:ext cx="5029200" cy="2921040"/>
          </a:xfrm>
          <a:prstGeom prst="rect">
            <a:avLst/>
          </a:prstGeom>
          <a:ln w="0">
            <a:noFill/>
          </a:ln>
        </p:spPr>
      </p:pic>
      <p:pic>
        <p:nvPicPr>
          <p:cNvPr id="116" name="image%208%20nyt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48006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Stabilità e consistenza del layout dell’interfacci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152640" y="184752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interfaccia grafica di una applicazione disponibile sul web include le metafore di interazione, le immagini e i concetti utilizzati per veicolare funzioni e contenuti, nonché le caratteristiche visuali di ogni componente e la sequenza funzionale di interazione per accedere all’informazione desiderat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e metafore di interazione devono essere semplici,  familiari e logich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interfaccia deve essere intuitiva: una interfaccia intuitiva infonde nell’utente la fiducia che è possibile trovare nel sito ciò che si cer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interfaccia deve essere consistente: l’identità grafica di una serie di pagine fornisce indizi visivi della continuità dell’informazione e offre anche una identità precisa dell’ente o istituzione proprietaria del si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ima3%20graphic_distraction" descr=""/>
          <p:cNvPicPr/>
          <p:nvPr/>
        </p:nvPicPr>
        <p:blipFill>
          <a:blip r:embed="rId1"/>
          <a:stretch/>
        </p:blipFill>
        <p:spPr>
          <a:xfrm>
            <a:off x="2986200" y="4567320"/>
            <a:ext cx="42526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e pagine devono avere una dimensione consistente  ed un formato uniforme di organizz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imag3%20sm_style_sheet" descr=""/>
          <p:cNvPicPr/>
          <p:nvPr/>
        </p:nvPicPr>
        <p:blipFill>
          <a:blip r:embed="rId1"/>
          <a:stretch/>
        </p:blipFill>
        <p:spPr>
          <a:xfrm>
            <a:off x="2257560" y="2892600"/>
            <a:ext cx="44481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ve essere definita una griglia standard di layout di pagina, che includa titoli e sottotitoli, titoli di fondo pagina, collegamenti di navigazione alla home-page e alle pagine principali, collegamento al responsabile del sito in modo da garantire il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ve essere definito un insieme di convenzioni editoriali ed un tema grafico un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im1%20netscape_navbar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4647960" cy="506520"/>
          </a:xfrm>
          <a:prstGeom prst="rect">
            <a:avLst/>
          </a:prstGeom>
          <a:ln w="0">
            <a:noFill/>
          </a:ln>
        </p:spPr>
      </p:pic>
      <p:pic>
        <p:nvPicPr>
          <p:cNvPr id="128" name="ima4%20site_metadesign_banner" descr=""/>
          <p:cNvPicPr/>
          <p:nvPr/>
        </p:nvPicPr>
        <p:blipFill>
          <a:blip r:embed="rId2"/>
          <a:stretch/>
        </p:blipFill>
        <p:spPr>
          <a:xfrm>
            <a:off x="4448160" y="5105520"/>
            <a:ext cx="3476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96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collegamenti a siti diversi devono essere ben evidenziati in modo che per l’utente sia chiaro quando sta entrando in un sito dive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im0%20hyperlink1" descr=""/>
          <p:cNvPicPr/>
          <p:nvPr/>
        </p:nvPicPr>
        <p:blipFill>
          <a:blip r:embed="rId1"/>
          <a:stretch/>
        </p:blipFill>
        <p:spPr>
          <a:xfrm>
            <a:off x="1447920" y="3441600"/>
            <a:ext cx="65530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 “dead end document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im2%20deadenddoc" descr=""/>
          <p:cNvPicPr/>
          <p:nvPr/>
        </p:nvPicPr>
        <p:blipFill>
          <a:blip r:embed="rId1"/>
          <a:stretch/>
        </p:blipFill>
        <p:spPr>
          <a:xfrm>
            <a:off x="2133720" y="2846520"/>
            <a:ext cx="403848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CARATTERISTICHE DEL MEZZO ELETTRONICO E DEI TERMINALI DI ACCESS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ahoma"/>
              </a:rPr>
              <a:t>Organizzazione dell’inform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ahoma"/>
              </a:rPr>
              <a:t>Struttura della singola pagina web.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COMUNICAZIONE E INTERNE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207612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utilizzo ottimale delle tecnologie di comunicazione e di Internet, costituisce una esigenza strategica per imprese, pubbliche amministrazioni e singoli sogett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Web è un mezzo importante sia per accrescere la produttività del lavoro all’interno delle imprese e degli uffici pubblici, sia per migliorare la qualità dei servizi questi soggetti offrono ai cittadin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Organizzazione dell’informazio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'organizzazione dell'informazione in forma ipertestuale deve prevedere la divisione del contenuto informativo complessivo in singole unità di informazione e l'adattamento alle caratteristiche del terminale utilizzando opportunamente una combinazione di convenzioni di grafica 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layout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blocchi di informazione devono essere brevi; la dimensione ottimale dell’unità di informazione associata ad un collegamento è variabile da un minimo di una ad un massimo di due pagine di informazione stampata per un terminale convenzionale e poche rigjhe di testo per un terminale wa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font usati devono favorire la leggibilità: in questa ottica i font sans serif (p.e. Arial) sono preferibili a quelli serif (es. Times Roman), Le parole devono essere scritte in  minuscolo con iniziali maiuscole, piuttosto che in  minuscolo o maiuscolo Testo e sfondo devono usare colori ad alto contras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imag2%20word_shapes" descr=""/>
          <p:cNvPicPr/>
          <p:nvPr/>
        </p:nvPicPr>
        <p:blipFill>
          <a:blip r:embed="rId1"/>
          <a:stretch/>
        </p:blipFill>
        <p:spPr>
          <a:xfrm>
            <a:off x="0" y="5562720"/>
            <a:ext cx="6019920" cy="763560"/>
          </a:xfrm>
          <a:prstGeom prst="rect">
            <a:avLst/>
          </a:prstGeom>
          <a:ln w="0">
            <a:noFill/>
          </a:ln>
        </p:spPr>
      </p:pic>
      <p:pic>
        <p:nvPicPr>
          <p:cNvPr id="142" name="imag%201%20lowercase_vs_uppercase" descr=""/>
          <p:cNvPicPr/>
          <p:nvPr/>
        </p:nvPicPr>
        <p:blipFill>
          <a:blip r:embed="rId2"/>
          <a:stretch/>
        </p:blipFill>
        <p:spPr>
          <a:xfrm>
            <a:off x="4676760" y="5487840"/>
            <a:ext cx="44672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Struttura della singola pagina we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5320" y="1523520"/>
            <a:ext cx="8636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 collegamenti ipertestuali consentono di accedere ad ogni singola pagina senza alcun preambolo. In un documento in rete, le pagine devono essere strutturate in modo da essere indipendent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e  testate e le note di una pagina web devono essere più informative ed elaborate di quelle di una pagina stampat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ima1%20visual_scanning" descr=""/>
          <p:cNvPicPr/>
          <p:nvPr/>
        </p:nvPicPr>
        <p:blipFill>
          <a:blip r:embed="rId1"/>
          <a:stretch/>
        </p:blipFill>
        <p:spPr>
          <a:xfrm>
            <a:off x="1752480" y="3505320"/>
            <a:ext cx="54104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 deve mantenere il senso di contesto. Le pagine devono avere dimensione conforme alla dimensione dello scher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im%207%20users_limited_view" descr=""/>
          <p:cNvPicPr/>
          <p:nvPr/>
        </p:nvPicPr>
        <p:blipFill>
          <a:blip r:embed="rId1"/>
          <a:stretch/>
        </p:blipFill>
        <p:spPr>
          <a:xfrm>
            <a:off x="1876320" y="3214800"/>
            <a:ext cx="55911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ATTITUDINI GENERICHE DELL’UTENTE E DEL SUO COMPORTAMEN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Organizzazione dell’accesso al s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Modalità di collegamento per mettere in relazione le unità di informazion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Organizzazione dell’accesso al si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sito deve essere strutturato in modo da richiedere all’utente il minimo numero di passi per accedere all’informazione voluta tenendo presente il numero di elementi che l'utente riesce a mantenere contemporaneamente in memoria (tipicamente un numero variabile da 4 a 7) e garantendo comunque il minor tempo di accesso possibi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iò  impl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definizione di una efficiente gerarchia dell’informazione in modo da minimizzare il numero di passi attraverso le pagine dei menu e lo sforzo di memorizzazi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image%200%20site_structure" descr=""/>
          <p:cNvPicPr/>
          <p:nvPr/>
        </p:nvPicPr>
        <p:blipFill>
          <a:blip r:embed="rId1"/>
          <a:stretch/>
        </p:blipFill>
        <p:spPr>
          <a:xfrm>
            <a:off x="0" y="3848040"/>
            <a:ext cx="4495680" cy="2476440"/>
          </a:xfrm>
          <a:prstGeom prst="rect">
            <a:avLst/>
          </a:prstGeom>
          <a:ln w="0">
            <a:noFill/>
          </a:ln>
        </p:spPr>
      </p:pic>
      <p:pic>
        <p:nvPicPr>
          <p:cNvPr id="156" name="image%2001%20pooruserimage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41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2076120"/>
            <a:ext cx="8839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esenza di un minimo di 5-7 collegamenti per menu; poche schermate, ciascuna con molte scelte, sono preferibili a molt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laye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menù semplifica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ssenza di grafic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itma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o altri artifici multimediali, specialmente in presenza di collegamenti non veloci; la dimensione della pagina da scaricare deve essere inferiore a 32KB in modo da non superare il limite di  5-6 secondi di tempo di accesso per pagi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Modalità di collegamento per mettere in relazione le unità di informazion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diverse unità di informazione devono essere messe in relazione tra loro secondo uno dei seguenti possibili schemi logic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quenza: in ordine cronologico, logico da generale a specifico, alfabetico. E’ l’organizzazione tipica degli indi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image%201%20sequence" descr=""/>
          <p:cNvPicPr/>
          <p:nvPr/>
        </p:nvPicPr>
        <p:blipFill>
          <a:blip r:embed="rId1"/>
          <a:stretch/>
        </p:blipFill>
        <p:spPr>
          <a:xfrm>
            <a:off x="2895480" y="4626000"/>
            <a:ext cx="335304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47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riglia: offre un collegamento diretto tra variabili; è l’organizzazione adatta per utenze specializzate, perfettamente a conoscenza dei contenut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image%202%20grid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34909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Pubbliche amministrazioni: </a:t>
            </a:r>
            <a:br>
              <a:rPr sz="3200"/>
            </a:b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direttiva del Governo Italiano per la P.A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rettiva del Governo Italiano contenente indicazioni per la costruzione dei siti Web delle amministrazioni pubbliche di cui all’art. 1, comma 2, D.Lgs. n. 29/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3333ff"/>
                </a:solidFill>
                <a:latin typeface="Tahoma"/>
              </a:rPr>
              <a:t>Circ. 13 marzo 2001, n. 3/2001, 6 settembre 2001 n AIPA/CR/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dirizzata a chiunque nelle amministrazioni abbia responsabilità collegate alla progettazione, realizzazione e manutenzione di sistemi informativi basati sulle tecnologie del Web. In linea con il piano di azione e-Gover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search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01000" y="3657600"/>
            <a:ext cx="914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04920" y="1618920"/>
            <a:ext cx="9017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erarchia:  definisce livelli distinti dal generale allo specifico.  L’accesso è definito attravers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menu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l’albero gerarchico deve essere bilanciato e non troppo profondo. In generale, la home-page non deve essere sovraccarica di collegamenti ma deve contenere un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elle categorie generali e rimandare a pagine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ubmenu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; ogn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ubmenu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un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mini home-p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 la specifica sezione; 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ubmenu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evono avere almeno quattro o cinque collegament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image%203%20hierarchy" descr=""/>
          <p:cNvPicPr/>
          <p:nvPr/>
        </p:nvPicPr>
        <p:blipFill>
          <a:blip r:embed="rId1"/>
          <a:stretch/>
        </p:blipFill>
        <p:spPr>
          <a:xfrm>
            <a:off x="2819520" y="4092480"/>
            <a:ext cx="365760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6360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Web-lik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: è basata su collegamenti associativi,  che l’utente segue in base al proprio interesse; è l’organizzazione tipica di siti con molti collegamenti ad informazioni mantenute internamente al sito ed esterne al sito. Questa organizzazione può generare confusione sulle interrelazioni tra unità di informazione ed è comunque adatta solo a piccoli sit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image%204%20web" descr=""/>
          <p:cNvPicPr/>
          <p:nvPr/>
        </p:nvPicPr>
        <p:blipFill>
          <a:blip r:embed="rId1"/>
          <a:stretch/>
        </p:blipFill>
        <p:spPr>
          <a:xfrm>
            <a:off x="3124080" y="4219560"/>
            <a:ext cx="35053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image%205%20structure_chart" descr=""/>
          <p:cNvPicPr/>
          <p:nvPr/>
        </p:nvPicPr>
        <p:blipFill>
          <a:blip r:embed="rId1"/>
          <a:stretch/>
        </p:blipFill>
        <p:spPr>
          <a:xfrm>
            <a:off x="1600200" y="2000160"/>
            <a:ext cx="556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FRUIZIONE DI SITI WE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spetti più importanti che riguardano le reali fruizioni dei siti Web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Accessibilità dei siti Web</a:t>
            </a:r>
            <a:r>
              <a:rPr b="0" lang="it-IT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Usabilità dei siti We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ahoma"/>
              </a:rPr>
              <a:t>Usabilit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’applicazione sul web è usabile quando uno specifico utente, in specifiche circostanze, con specifici obbiettivi può usarla con efficacia, efficienza e soddisfazione”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3333ff"/>
                </a:solidFill>
                <a:latin typeface="Tahoma"/>
              </a:rPr>
              <a:t>ISO International Standard Organization, norm ISO 9241-1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USABILITA’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usabilità di un sito Web implica che le informazioni debbano essere organizzate e strutturate in maniera da garantire la massima fruibi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requisito della progettazione di un sito è l’identificazione delle tipologie di utenza alla quale è rivol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importante che vi sia uno sforzo per immaginare come il sito Web sarà visto e usato dai suoi utenti una volta realizzato, tenendo conto della varietà delle caratteristiche personali, sociali e culturali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99980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definizione di usabilità è strettamente legata al contesto di operazione. Richiede che siano stabili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hi sono gli utenti tipo del sito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le è l’azione che l’utente tipicamente svol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nto tempo tipicamente dura l’attività svol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nto tempo tipicamente l’utente è disponibile ad investire per familiarizzare con il 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e è misurabile la soddisfazione dell’uten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le è la percentuale di errore accettabile</a:t>
            </a: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Usabilità: figure di meri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Apprendibilità 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sura la facilità dell’apprendimento dei modi di interazione, così da raggiungere un certo livello di dimestichezza e un uso efficiente delle funzioni del 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Efficacia 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sura l’accuratezza e la completezza con cui gli utenti raggiungono uno specifico obbiettiv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Efficienza 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sura le risorse spese in relazione all’accuratezza e la completezza con cui si raggiungono gli obbiettiv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Soddisfazione 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sura l’attitudine positiva ad utilizzare il si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Apprendibi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mpo necessario per raggiungere una certa produttività nell’uso delle funzioni del 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mpo necessario a recuperarla dopo un tempo in cui non si è utilizzato il 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Effica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umero di errori per completare un’attiv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ccuratezza e completezza dei risultati ottenu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fidenza con cui l’utente ha fiducia nell'effetto delle procedure e nella correttezza dei dati present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Effici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mpo necessario al completamento di un compito in relazione alla capacità di calcolo del sistema e della banda di trasmissione disponib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Soddisfazio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pacità del sito Web di evitare operazioni inut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alità di presentazione dell’informazion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ggibilità dell’inform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stetica e consistenza del layout dell’interfac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so appropriato del colore e dei font…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Utilizzo del web nella p.a.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e supporto tecnologico per la realizzazione di servizi evoluti ai cittadi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pubblicare l’informazione di rilevanza pubblica relativa alle attività generate dall’amministrazione, con validazione e aggiornamento delle informazion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e opportunità di condividere informazioni tra uffici,   di realizzare pratiche di integrazione tra basi di dati e tra procedure, di collaborazione con soggetti esterni a una determinata amministr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ttività di progettazione e di sviluppo del sito Web deve essere opportunamente inserita nel contesto organizzativo dell’amministrazio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it-IT" sz="2800" spc="-1" strike="noStrike">
                <a:solidFill>
                  <a:srgbClr val="3333ff"/>
                </a:solidFill>
                <a:latin typeface="Tahoma"/>
              </a:rPr>
              <a:t>Soddisfazione: principi ba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4260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Modalità di presentazione dell’informazione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nimo numero di passi per accedere all’inform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ggetto medio riesce a mantenere in memoria un numero massimo d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elementi di informazione variabile da 4 a 7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senza di un minimo di 5-7 collegamenti per men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oche schermate con molte scelte preferibili a molti menu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mplifica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eggibilità dell’inform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pagine devono essere indipendent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e  testate e le note di una pagina web devono essere più informative 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elaborate di quelle di una pagina stampat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mensione ottimale dell’unità di inform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variabile da 1 a 2 pagine di informazione stampata per un termina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venzionale, a poche righe di testo per un terminale w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Estetica e consistenza del layout dell’interfac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dentità grafica delle pagin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ornisce indizi visivi della continuità dell’informazione e offre anche una identità precisa dell’ente o istituzione proprietaria del sit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llegamenti a siti diversi evidenzi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Uso appropriato del colore e dei fo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ssenza di grafica bitmap o altri artifici multimedi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dimensione della pagina deve essere inferiore a 32KB = 5-6 secondi di tempo di accesso con collegamenti non velo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font usato deve favorire la leggibi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ont sans serif (p.e. Arial) preferibili a quelli serif (es. Times Roman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sto e sfondo devono usare colori ad alto contras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Usabilità: elementi rilevanti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43280"/>
            <a:ext cx="81788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pinioni del pubblic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elta di tecnologie compatibili con gli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formazione scritta in modo chiaro e con un linguaggio comu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erenza dell’organizzazione e della presentazione delle informazion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luzioni atte a facilitare la ricerca degli argomen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mogeneità della struttura in tutte le parti del 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……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ferimenti prioritar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cumenti conclusivi della Conferenza Ministeriale di Lisbona dell’Unione Europea del 20 marzo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cumenti conclusivi della Conferenza Ministeriale di Feira del 19 e 20 giugno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inee guida sull’accessibilità dei siti Web del   Consorzio Mondiale del Web   W3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Principi generali di riferimento nella progettazione di un sito we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sistono principi generali di riferimento nella progettazione di un sito web basati s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concetti base di comunicazion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caratteristiche del mezzo elettronico e dei terminali di accesso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generiche attitudini  comportamentali dell'ut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COMUNICAZIO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Credibilità del 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Stabilità e consistenza del layout dell’interfac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3200" spc="-1" strike="noStrike">
                <a:solidFill>
                  <a:srgbClr val="3333ff"/>
                </a:solidFill>
                <a:latin typeface="Arial Narrow"/>
              </a:rPr>
              <a:t>Credibilità del sito</a:t>
            </a: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garantire la credibilità di un sito, i documenti devono essere strutturati secondo un ben definito standard editoriale. Alti standard editoriali comunicano all’utente che l’informazione è accurata ed affidabile. E’ quindi importante che sia ben identificab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soggetto che propone l’informazi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he cosa viene comunic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luogo da cui proviene l’informazion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data dell’ultimo aggiornamento dell'informazi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885680"/>
            <a:ext cx="8636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home-page del sito è in genere il luogo appropriato per rendere visibile questa informazion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home page è anche un luogo appropriato per mettere annunci di variazioni, nuovi servizi o prodotti, notizie di stampa ….o il collegamento ad apposita sezione “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ew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”. L’aggiornamento di informazione soggetta a variazioni deve essere almeno mens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9:23:55Z</dcterms:created>
  <dc:creator>Alberto Del Bimbo</dc:creator>
  <dc:description/>
  <dc:language>en-US</dc:language>
  <cp:lastModifiedBy>Diego Mencarelli</cp:lastModifiedBy>
  <dcterms:modified xsi:type="dcterms:W3CDTF">2003-04-15T08:59:14Z</dcterms:modified>
  <cp:revision>27</cp:revision>
  <dc:subject/>
  <dc:title>Nessun titolo diapositiva</dc:title>
</cp:coreProperties>
</file>