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2C1-6F39-4666-9261-338BFE93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DB3-1850-4121-9ADC-1E3AE02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2ED-DBD5-4AF3-A55B-1F3D591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31C-810F-4AB5-8B88-55FBC61E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A34-32A5-4DA6-AE7D-4CC6B02D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A26-C66B-436C-94DA-21A14B14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16AD-066C-4D1B-B643-5CF79940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EFCD-A950-4ABB-A441-D01702A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DE20-1678-4563-9132-DCE38D1F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CBD9-035A-44F0-8852-1F31D565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2EC-C9D0-492A-8F54-C9A454A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B84-D042-4EB1-97F3-5BC3D26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9F7-205A-460C-983E-2E0D927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8ABC-68B1-4DDD-B3F2-79C6852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A5E0-DBE9-46EB-84AF-3C4D7DC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095-19A3-4339-BD8D-B84EE94B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CBB-62E6-4925-8896-A38486C1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A6F-29E1-4AC5-AC81-F1A8A5F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2A3-304A-44B0-BED6-9CCE4E3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6DC-767D-492B-911F-5CA027C3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8DF-FC8C-4F3C-B6FD-8A6BD0B6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1E1-4353-474E-9D28-46C8361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E9C-3BB6-40D7-ADDC-D455839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C85-1F6B-4C25-B8BA-93A8600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/02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85E-9EBF-4E92-B257-3DBC1D518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E11C-B0A5-4B53-8282-F43248524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agina12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agina13.html" TargetMode="External"/><Relationship Id="rId2" Type="http://schemas.openxmlformats.org/officeDocument/2006/relationships/hyperlink" Target="file:///pagina13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pagina15.html" TargetMode="External"/><Relationship Id="rId2" Type="http://schemas.openxmlformats.org/officeDocument/2006/relationships/hyperlink" Target="file:///pagina15.html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agina16.html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agina17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pagina18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pagina19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agina10.html" TargetMode="External"/><Relationship Id="rId2" Type="http://schemas.openxmlformats.org/officeDocument/2006/relationships/hyperlink" Target="file:///pagina10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agina11.html" TargetMode="External"/><Relationship Id="rId2" Type="http://schemas.openxmlformats.org/officeDocument/2006/relationships/hyperlink" Target="file:///pagina11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l linguaggio HTM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0384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'inserimento di contenuti interni è invece leggermente più complesso e richiede l'uso di appositi tag come  &lt;OBJECT&gt;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viene focalizzare l’attenzione solo sul tag &lt;OBJECT&gt; che è quello raccomandato dal W3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Inserire contenuti multimediali “interni”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inserire una animazione Macromedia Flash all’interno della pagina HTML, andrà usato il tag &lt;OBJECT&gt; corredato dagli appositi parametri. Ogni plug-in, secondo le specifiche del produttore, usa i propri parametri.</a:t>
            </a:r>
            <a:r>
              <a:rPr b="0" lang="it-IT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	Vedi la pagina 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bcbcb"/>
                </a:solidFill>
                <a:latin typeface="Times New Roman"/>
              </a:rPr>
              <a:t>Concetti ulteriori delle pagine HTML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cbcbcb"/>
                </a:solidFill>
                <a:latin typeface="Times New Roman"/>
              </a:rPr>
              <a:t>Concetti ulteriori delle pagine HTML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85760" indent="-217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sto preformatt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o dei vantaggi del Web è che il testo slitta automaticamente su più righe per adattare i margini alla grandezza della finestra corrente. A volte però potreste voler disabilitare questo comportamento. Per esempio quando state inserendo esempi di codice di programmazione. Potete fare ciò utilizzando l'elemen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esempio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2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ggiungere mappe immag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'elemento area ha la funzione di definire una regione dell'immagine e di collegarla a un indirizzo Internet.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shap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può assumere i valori "rect", "circle" o "poly".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"coords"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pecifica le coordinate per una regione a seconda della for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ect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sinistra-x, alto-y, destra-x, basso-y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ircle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centro-x, centro-y, raggio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oly: 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 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 ... x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n</a:t>
            </a:r>
            <a:r>
              <a:rPr b="0" i="1" lang="it-IT" sz="2000" spc="-1" strike="noStrike">
                <a:solidFill>
                  <a:srgbClr val="ffffff"/>
                </a:solidFill>
                <a:latin typeface="Courier New"/>
              </a:rPr>
              <a:t>,y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Courier New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2"/>
              </a:rPr>
              <a:t>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Usar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tabelle sono utilizzate sia per fornire informazioni sia a fini di presentazione. Potete allargare le tabelle fino a farle coincidere con i margini della pagina, specificare una larghezza fissa o lasciare che sia il browser a dimensionare la tabella per adattarla ai contenu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Usar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bcbcb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table border="1"&gt; &lt;tr&gt;&lt;th&gt;Anno&lt;/th&gt;&lt;th&gt;Vendite&lt;/th&gt;&lt;/tr&gt; &lt;tr&gt;&lt;td&gt;2000&lt;/td&gt;&lt;td&gt;$18M&lt;/td&gt;&lt;/tr&gt; &lt;tr&gt;&lt;td&gt;2001&lt;/td&gt;&lt;td&gt;$25M&lt;/td&gt;&lt;/tr&gt; &lt;tr&gt;&lt;td&gt;2002&lt;/td&gt;&lt;td&gt;$36M&lt;/td&gt;&lt;/tr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/table&gt;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Times New Roman"/>
              </a:rPr>
              <a:t>Spaziatura interna delle c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tete incrementare per tutte le celle della tabella la spaziatura interna [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distanza tra il margine esterno della cella e l'inizio del contenu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] usando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ellpad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ll'elemento table. Per esempio, per impostare la spaziatura interna a 10 pixe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bcbcb"/>
                </a:solidFill>
                <a:latin typeface="Courier New"/>
              </a:rPr>
              <a:t>&lt;table border="1" cellpadding="10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ggiungere atributi alle tab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contro,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cellspac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determina lo spazio tra le celle. Ecco come impostare la spaziatura tra le celle a 10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bcbcb"/>
                </a:solidFill>
                <a:latin typeface="Courier New"/>
              </a:rPr>
              <a:t>&lt;table border="1" cellpadding="10" cellspacing="10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troduzi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erire contenuti multimedi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erire contenuti multimediali “intern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cetti ulteriori delle pagine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ntestazioni e paragraf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enfasi al tes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immagi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giungere collegamenti ad altre pag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sare vari tipi di li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Times New Roman"/>
              </a:rPr>
              <a:t>Allineamento del testo nelle cel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impostazione predefinita i browser centrano le intestazioni delle celle (th) ed allineano a sinistra i dati (td). Potete modificare l'allineamento usando l'attrib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alig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che può essere aggiunto ad ogni cella o alla riga (elemento tr). E' usato con i valori "left", "center" o "right"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632448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Verdana"/>
                <a:hlinkClick r:id="rId1"/>
              </a:rPr>
              <a:t>Vedi la pagina 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obbiamo prima di tutto distinguere tra due tipi di contenuto multimediale: il contenuto “interno” ed il contenuto “estern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contenut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intern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quello che è fruibile direttamente attraverso il browser, mentre quell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estern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richiede del software che non è parte integrante del brow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 tipico contenuto interno è ad esempio una semplice animazione come una gif animata, una applet Java o un controllo Activ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contenuto esterno si può far riferimento ad un filmato mpeg o una sorgente RealAudio ( che comportano l'apertura dell'apposito lett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ziamo a trattare l'inserimento del contenuto esterno che risulta un procedimento piuttosto semplice: l'operazione da effettuare è la scrittura di un link che punti al file multimediale che si desidera mandare in esecuzi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d esempio per inserire il filmato ”libro.mpeg" nella propria pagina è necessario scriver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&lt;A href=”filmato.mov"&gt; Vedi il Filmato &lt;/A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' consigliabile inserire nel testo allegato ai contenuti multimediali anche qualche informazione riguardo alle dimensioni del file e ai tempi di caric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.: Tempo richiesto per il down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Inserire contenuti multimedial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i può anche collegare il filmato ad una immagine o frame signifi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Vedi la pagina </a:t>
            </a:r>
            <a:r>
              <a:rPr b="0" lang="it-IT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e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7:37:18Z</dcterms:created>
  <dc:creator>Marco Bertini</dc:creator>
  <dc:description/>
  <dc:language>en-US</dc:language>
  <cp:lastModifiedBy>Carlo Torniai</cp:lastModifiedBy>
  <cp:lastPrinted>2002-02-28T16:23:44Z</cp:lastPrinted>
  <dcterms:modified xsi:type="dcterms:W3CDTF">2003-04-08T08:41:42Z</dcterms:modified>
  <cp:revision>163</cp:revision>
  <dc:subject/>
  <dc:title>Video Editing</dc:title>
</cp:coreProperties>
</file>